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4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18B4-16ED-4EE3-BF93-24D4533562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EEAA-32A4-4393-A0FB-2F15E1DD4724}" type="slidenum"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92B-BE6E-4DCD-9228-BF0BF180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DA8-AD9F-487C-8B93-A8D70D7C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D883-7ED6-4EDD-BC68-DD039D72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C10-B19F-4B4F-8BE0-F90DC9FD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4649-B344-4CD4-9B53-083C2695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764B-56A0-4FDD-A4AA-D1E190AC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06BB-81CE-4282-B464-2635BBA1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E500-D0AF-42F7-8082-5F3BB319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46F9-5460-4477-9E7F-31F3D826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2390-0D1A-4308-B23C-D77C0BB7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70B6-F597-496A-8F0B-B18D6DFB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FE8-019F-4250-89BC-276CF19E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9E7C-6F11-4149-AF85-14D68EC7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8D3E-B584-4899-B74A-5DCC964E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F87D-E11C-4971-B9DC-B9A80130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E348-79EE-4B77-83AE-21D5CB7C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8F9E-2655-469F-BFAA-E022E75E2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57B-A1E0-4EC1-80EC-C9D3AFA0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58A5-637F-4186-A3FB-607F25C2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CDD9-C791-4983-917A-A1C09C63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34A-16F4-4F6B-B45C-21894705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0A8-A00B-4662-B523-5CC0D8AF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D89E-80CE-4BBA-AD01-DEE82F98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2BE-C0F7-4F28-A3D0-4AF57ECF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A24F-9C0D-4AE8-BFC2-00035AD2A7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ED81-23FE-41E7-AF48-80112BCD696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33360"/>
            <a:ext cx="8523360" cy="25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˥</a:t>
            </a:r>
            <a:r>
              <a:rPr b="1" i="1" lang="ru-RU" sz="6000" spc="-1" strike="noStrike" u="sng">
                <a:solidFill>
                  <a:srgbClr val="ff3300"/>
                </a:solidFill>
                <a:uFillTx/>
                <a:latin typeface="Times New Roman"/>
              </a:rPr>
              <a:t>шуточные страсти в проблеме трех тел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0920" y="3141360"/>
            <a:ext cx="8210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ff"/>
                </a:solidFill>
                <a:latin typeface="Times New Roman"/>
              </a:rPr>
              <a:t>В.В. Ор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Санкт-Петербург,   </a:t>
            </a:r>
            <a:r>
              <a:rPr b="0" i="1" lang="ru-RU" sz="4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 2014 г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BE8D-4E34-4D01-B2A4-37BD82F9382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364000" y="5057640"/>
            <a:ext cx="80964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мен партнерами с уходом мужа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с предварительным выяснением отношений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войное сближение мужа и жены);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с предварительным выбросом мужа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уж в командировке)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1FF5-01E0-499F-9BB6-84A7423339F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67120" cy="392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471600" y="2060640"/>
            <a:ext cx="386712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ойчивое обращение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абильная семья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A63E-A531-4D5B-A8EB-71B944A866F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4" name="Picture 2" descr="http://znn.india.com/Img/2014/1/6/Star-450.jpg"/>
          <p:cNvPicPr/>
          <p:nvPr/>
        </p:nvPicPr>
        <p:blipFill>
          <a:blip r:embed="rId1"/>
          <a:stretch/>
        </p:blipFill>
        <p:spPr>
          <a:xfrm>
            <a:off x="2124000" y="2421000"/>
            <a:ext cx="4286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207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ойчивые обмены партнерами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Фигаро здесь, Фигаро там) – «цепочка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D394-52D9-4A70-95D2-D0CEDFDBAE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47" name="Picture 6" descr="http://www.scholarpedia.org/w/images/e/e3/3body_problem_figure8.gif"/>
          <p:cNvPicPr/>
          <p:nvPr/>
        </p:nvPicPr>
        <p:blipFill>
          <a:blip r:embed="rId1"/>
          <a:stretch/>
        </p:blipFill>
        <p:spPr>
          <a:xfrm>
            <a:off x="755640" y="2492280"/>
            <a:ext cx="78487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зотика – догонялки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4903-B94B-47CC-ADD0-2F1AC636655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0" name="Picture 2" descr="http://tuvalu.santafe.edu/~moore/figure8-3.loop.gif"/>
          <p:cNvPicPr/>
          <p:nvPr/>
        </p:nvPicPr>
        <p:blipFill>
          <a:blip r:embed="rId1"/>
          <a:stretch/>
        </p:blipFill>
        <p:spPr>
          <a:xfrm>
            <a:off x="2987640" y="234936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возможны сближения всех трех пар (но редко) – «бублик» (или Кельтский узел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1623-B0EA-4481-A1C8-1796FD5C828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3" name="Picture 7" descr="D(3,4) choreography"/>
          <p:cNvPicPr/>
          <p:nvPr/>
        </p:nvPicPr>
        <p:blipFill>
          <a:blip r:embed="rId1"/>
          <a:stretch/>
        </p:blipFill>
        <p:spPr>
          <a:xfrm>
            <a:off x="2771640" y="24922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ль (что нужно для целостной семьи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Сохранять иерархию структуры в общении с потенциальными любовниками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Не допускать далеких выбросов одного из супруг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00ffff"/>
                </a:solidFill>
                <a:latin typeface="Times New Roman"/>
              </a:rPr>
              <a:t>Не допускать тесных тройных сближений, которые и приводят к разрушению моральных устоев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58BD-D661-49B2-9230-3645A0ED665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Спасибо з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Внимание !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EB8D-CD12-4477-907D-71E6CB6E711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59" name="Picture 6" descr="http://im5-tub-ru.yandex.net/i?id=334778479-54-72&amp;n=21"/>
          <p:cNvPicPr/>
          <p:nvPr/>
        </p:nvPicPr>
        <p:blipFill>
          <a:blip r:embed="rId1"/>
          <a:stretch/>
        </p:blipFill>
        <p:spPr>
          <a:xfrm>
            <a:off x="2700360" y="2971800"/>
            <a:ext cx="38066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пи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ccff"/>
                </a:solidFill>
                <a:latin typeface="Times New Roman"/>
                <a:ea typeface="Times New Roman"/>
              </a:rPr>
              <a:t>«Проблема трех тел – самая эротичная проблема небесной механики и не только…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Вадим Леонардович Аббакум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6F3-6AD6-44CE-872A-B61ACA3E96F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28240"/>
            <a:ext cx="80661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5050"/>
                </a:solidFill>
                <a:latin typeface="Times New Roman"/>
              </a:rPr>
              <a:t>Классический треугольни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FFD9-DA71-4EE6-9BDC-42B9F48C982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1187280" y="1971720"/>
            <a:ext cx="5951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Примеры в мире звезд и галактик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40000" y="2060640"/>
            <a:ext cx="482436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cc99ff"/>
                </a:solidFill>
                <a:latin typeface="Times New Roman"/>
              </a:rPr>
              <a:t>α</a:t>
            </a:r>
            <a:r>
              <a:rPr b="0" lang="ru-RU" sz="3200" spc="-1" strike="noStrike">
                <a:solidFill>
                  <a:srgbClr val="cc99ff"/>
                </a:solidFill>
                <a:latin typeface="Times New Roman"/>
              </a:rPr>
              <a:t> Центавра </a:t>
            </a: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Прокси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d050"/>
                </a:solidFill>
                <a:latin typeface="Times New Roman"/>
              </a:rPr>
              <a:t>Галактика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БМО +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ММО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395280" y="3735360"/>
            <a:ext cx="3335400" cy="2502000"/>
          </a:xfrm>
          <a:prstGeom prst="rect">
            <a:avLst/>
          </a:prstGeom>
          <a:ln w="0">
            <a:noFill/>
          </a:ln>
        </p:spPr>
      </p:pic>
      <p:sp>
        <p:nvSpPr>
          <p:cNvPr id="118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F09-981E-4A37-B3F0-03CC4070BB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19" name="Picture 10" descr="https://encrypted-tbn0.gstatic.com/images?q=tbn:ANd9GcQM8MBh2P5tFZ82tGqMzy8XbjCJ0ZPbOhFrKNJ06sA9FeLICxDKVw"/>
          <p:cNvPicPr/>
          <p:nvPr/>
        </p:nvPicPr>
        <p:blipFill>
          <a:blip r:embed="rId2"/>
          <a:stretch/>
        </p:blipFill>
        <p:spPr>
          <a:xfrm>
            <a:off x="539640" y="1928880"/>
            <a:ext cx="31910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473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5050"/>
                </a:solidFill>
                <a:latin typeface="Times New Roman"/>
              </a:rPr>
              <a:t>Рассмотрим возможные ситуации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8487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Номер слайда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F4E5-B567-4751-8C69-95F997109F1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ка жанра – пролет любов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4C82-E79C-4D6D-8FE3-220178D891F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25" name="Picture 2" descr="https://encrypted-tbn3.gstatic.com/images?q=tbn:ANd9GcSik9u5GHAlksPxeZHooSc8ZngdUtRjH0b9ITEvW4RLnNlIll-gnA"/>
          <p:cNvPicPr/>
          <p:nvPr/>
        </p:nvPicPr>
        <p:blipFill>
          <a:blip r:embed="rId1"/>
          <a:stretch/>
        </p:blipFill>
        <p:spPr>
          <a:xfrm>
            <a:off x="2195640" y="2205000"/>
            <a:ext cx="45370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56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жные пролеты любовника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 временными возвратами)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Объект 4" descr=""/>
          <p:cNvPicPr/>
          <p:nvPr/>
        </p:nvPicPr>
        <p:blipFill>
          <a:blip r:embed="rId1"/>
          <a:stretch/>
        </p:blipFill>
        <p:spPr>
          <a:xfrm>
            <a:off x="1042920" y="2192400"/>
            <a:ext cx="3468600" cy="352116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D563-5297-429D-9150-CF9655C9340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34560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2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 возможности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уход любовника;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 уход жены;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 уход мужа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98E9-4FAB-468D-A672-71791344241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195720" y="3141720"/>
            <a:ext cx="2592360" cy="2631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6084720" y="3141720"/>
            <a:ext cx="2592720" cy="2631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2590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507520" cy="559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ование пары нетрадиционной ориентации с уходом жены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9B7A-DA6E-42D9-B089-F5409C74547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059280" y="2421000"/>
            <a:ext cx="32511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21:12:48Z</dcterms:created>
  <dc:creator>evmag</dc:creator>
  <dc:description/>
  <dc:language>en-US</dc:language>
  <cp:lastModifiedBy>vor</cp:lastModifiedBy>
  <dcterms:modified xsi:type="dcterms:W3CDTF">2014-03-20T14:29:50Z</dcterms:modified>
  <cp:revision>429</cp:revision>
  <dc:subject/>
  <dc:title>Стабильность избранных кратных звездных систем со слабой иерархи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